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07E-2FA2-465C-A1AB-D8DB337D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51F-0D01-453D-B2AB-ED476FD9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0C9-37E0-45F8-AA2B-C751B94D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2C4-710B-42D5-B67B-5F6E36E1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B77-095F-4C00-9730-7B5D12BF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3EA-93E5-4F56-AD58-D0443E63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A73-7A92-4E10-A7FE-3ADBC970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8BA-57FA-4F19-B117-AB3225A4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7F6-7D81-4AB5-ABA1-BF615C0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B41-DA2F-4947-AF91-1416F60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684-016C-4E5C-8069-3EBCBE0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28B-732D-4787-8D69-C054623B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D420-4C5F-4FCF-B4B8-C007FA424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Dropping Of The Atomic Bombs O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By: Brandon and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Old English Text MT"/>
              </a:rPr>
              <a:t>When and Where it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120" y="3962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Atomic bomb was dropped on Hiroshima on Monday, August 6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econd Atomic bomb was dropped on Nagasaki on August 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Dropped it and Who Helped Mak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tomic bomb was tested in New Mexico and 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was dropped by the United States of America Ai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had to be cleared to be dropped by the Joint Chiefs of Staff of the War Depar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Had a Big Role in The Bomb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did most of the work for the bombing of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d have some help from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role the united states played in the bombing was the actual bombing itself and the making of the bom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Why is The Event Memor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bombing in Japan is a memorable moment because pearl harbor was right before the bombing in Japan happen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of the veterans who survived pearl harbor, they might of taken this as reve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Why is This Relevant to W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ings on Japan were relevant to World War 2 because in WWII the Japanese attacked pearl harbor which got United States into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pearl harbor incident didn’t happen, the bombings on Japan would not of been relevant to World War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1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2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3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4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5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6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1 -www.worldboo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2 -Bombing of Hiroshima-Encyclop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3 -www.icon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14:01Z</dcterms:created>
  <dc:creator>41251</dc:creator>
  <dc:description/>
  <dc:language>en-US</dc:language>
  <cp:lastModifiedBy>Safe Internet</cp:lastModifiedBy>
  <dcterms:modified xsi:type="dcterms:W3CDTF">2005-02-01T04:22:00Z</dcterms:modified>
  <cp:revision>7</cp:revision>
  <dc:subject/>
  <dc:title>Dropping Of The Atomic Bombs On Japan</dc:title>
</cp:coreProperties>
</file>